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BEEE-7B9A-42E6-AF8C-C4555D161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9640" y="327096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C005-B9D0-4BBB-BB87-2DFB025D0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4908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FC11-A70B-4C3D-9029-B1D4F64CC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8092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2256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964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8092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2256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CB4C-3719-495B-9707-53F4026FA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B3257-42F7-4A6D-B8C8-3514410A2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465a4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D1FDA-057C-48BF-A8BA-D22A08720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F3EC1-6B01-49AF-90A8-0D80EB89A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F721B-4FBD-4D09-AEEA-74EA9016B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E102A-B01F-4219-B250-33FF328E7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640" y="90000"/>
            <a:ext cx="8994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465a4"/>
              </a:solidFill>
              <a:latin typeface="Source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83211-46F9-4106-BF7B-D71487E1B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2DAF8-8DDA-4C3C-A4A7-5A2380CA7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465a4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C319-2BC0-4AE6-8BA1-452FE922E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4908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BC49A-9BE2-4AFD-B7AF-8B1F9F885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FEC80-D6FF-4E77-A055-2907CEA16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9640" y="327096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90762-47FB-47D7-B332-09C23307D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4908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9FD1C-550A-4AAB-B687-36E82B502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8092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2256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964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8092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2256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A28BE-B49F-4D10-AD4B-1C9A16783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B4070-7357-4BDD-A674-D6A548AA9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465a4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8A340-2907-4FEB-8EE5-1E21B1454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AD78D-442E-41FC-9C49-70245C76A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A8FC9-9821-4FF6-BA5C-A40AD2353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E7F51-8FAB-4EEB-BEEA-D8DA31B06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ECD2-D92E-422C-8D57-D4FB3B73A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539640" y="90000"/>
            <a:ext cx="8994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465a4"/>
              </a:solidFill>
              <a:latin typeface="Source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2C453-AB68-4C6F-AFCF-B1CB3BD58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12374-249B-4F9B-9190-7B0544D7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4908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BFBC4-2DB6-4FEB-8855-E1988A045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729E6-6543-4CCB-930A-4BAF49A4B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9640" y="327096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F3B26-BFC1-4854-8819-AABBB5F45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4908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73381-B298-4A90-8914-D8E22971E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58092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62256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3964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58092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62256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74175-B800-407E-98C2-65DFC6CDB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23DEC-C1EA-4015-BA1B-FCEF5B888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465a4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EBD2E-E31C-4324-9408-D335064B1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CFBDA-5FC8-4633-AB09-77AE7FAB1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B4F7-8B25-49A5-8D24-E795B6445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61201-56D1-4B56-A479-7E9E882A0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881F1-CC35-4791-8486-68A5F304E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539640" y="90000"/>
            <a:ext cx="8994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465a4"/>
              </a:solidFill>
              <a:latin typeface="Source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87419-48C0-4661-9B2F-7789E97A6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8EBF4-3BCA-4B2E-9D22-A0B99A3C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14908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CAAE6-00B9-4CCB-884C-F430098A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9F0AC-7C7D-4A84-AC71-F420AF40C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39640" y="327096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98EB3-A3A4-40CB-BAB2-E227F64A2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14908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F9D42-8B35-4A23-AF75-22B3BEA70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58092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62256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3964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58092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62256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FE36E-672E-4251-8B55-79DA712C4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D9C8-643A-4EF4-B0C1-7A0E0DE0D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9640" y="90000"/>
            <a:ext cx="8994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465a4"/>
              </a:solidFill>
              <a:latin typeface="Source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F75D-C1F3-4BDB-8103-317AB1C1B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C7C2-44D2-4DE0-8C4D-C9C57BDC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908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89E2-9591-4E2D-BA39-B4948672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3A01-A7F1-445E-97B5-D4EC1BCED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3743280"/>
            <a:ext cx="10080720" cy="1925640"/>
          </a:xfrm>
          <a:prstGeom prst="rect">
            <a:avLst/>
          </a:prstGeom>
          <a:ln w="0">
            <a:noFill/>
          </a:ln>
          <a:effectLst>
            <a:outerShdw dist="18000" dir="16200000" blurRad="0" rotWithShape="0">
              <a:srgbClr val="f49100"/>
            </a:outerShdw>
          </a:effectLst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48920" y="5128920"/>
            <a:ext cx="2335320" cy="444600"/>
          </a:xfrm>
          <a:prstGeom prst="rect">
            <a:avLst/>
          </a:prstGeom>
          <a:noFill/>
          <a:ln w="93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dbf5f9"/>
                </a:solidFill>
                <a:latin typeface="Times New Roman"/>
              </a:rPr>
              <a:t>&lt;date/time&gt;</a:t>
            </a:r>
            <a:r>
              <a:rPr b="0" lang="de-AT" sz="2400" spc="-1" strike="noStrike">
                <a:solidFill>
                  <a:srgbClr val="dbf5f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419280" y="5128920"/>
            <a:ext cx="3235320" cy="444600"/>
          </a:xfrm>
          <a:prstGeom prst="rect">
            <a:avLst/>
          </a:prstGeom>
          <a:noFill/>
          <a:ln w="93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dbf5f9"/>
                </a:solidFill>
                <a:latin typeface="Times New Roman"/>
              </a:rPr>
              <a:t>&lt;footer&gt;</a:t>
            </a:r>
            <a:r>
              <a:rPr b="0" lang="de-AT" sz="2400" spc="-1" strike="noStrike">
                <a:solidFill>
                  <a:srgbClr val="dbf5f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7198920" y="5128920"/>
            <a:ext cx="2335320" cy="444600"/>
          </a:xfrm>
          <a:prstGeom prst="rect">
            <a:avLst/>
          </a:prstGeom>
          <a:noFill/>
          <a:ln w="93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955661-0C55-4991-BE6F-F70E059FA43A}" type="slidenum">
              <a:rPr b="0" lang="de-AT" sz="24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r>
              <a:rPr b="0" lang="de-AT" sz="2400" spc="-1" strike="noStrike">
                <a:solidFill>
                  <a:srgbClr val="dbf5f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48920" y="269640"/>
            <a:ext cx="8994600" cy="32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04617b"/>
                </a:solidFill>
                <a:latin typeface="Source Sans Pro Light"/>
              </a:rPr>
              <a:t>Click to edit the title text format</a:t>
            </a:r>
            <a:endParaRPr b="0" lang="en-US" sz="6000" spc="-1" strike="noStrike">
              <a:solidFill>
                <a:srgbClr val="04617b"/>
              </a:solidFill>
              <a:latin typeface="Source Sans Pro Light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48920" y="3870000"/>
            <a:ext cx="8994600" cy="116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8000"/>
          </a:bodyPr>
          <a:p>
            <a:pPr marL="130320" indent="0">
              <a:lnSpc>
                <a:spcPct val="104000"/>
              </a:lnSpc>
              <a:spcAft>
                <a:spcPts val="92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dbf5f9"/>
                </a:solidFill>
                <a:latin typeface="Source Sans Pro"/>
              </a:rPr>
              <a:t>Click to edit the outline text format</a:t>
            </a:r>
            <a:endParaRPr b="0" lang="en-US" sz="2100" spc="-1" strike="noStrike">
              <a:solidFill>
                <a:srgbClr val="dbf5f9"/>
              </a:solidFill>
              <a:latin typeface="Source Sans Pro"/>
            </a:endParaRPr>
          </a:p>
          <a:p>
            <a:pPr lvl="1" marL="130320" indent="-130320">
              <a:lnSpc>
                <a:spcPct val="104000"/>
              </a:lnSpc>
              <a:spcAft>
                <a:spcPts val="92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dbf5f9"/>
                </a:solidFill>
                <a:latin typeface="Source Sans Pro"/>
              </a:rPr>
              <a:t>Second Outline Level</a:t>
            </a:r>
            <a:endParaRPr b="0" lang="en-US" sz="2100" spc="-1" strike="noStrike">
              <a:solidFill>
                <a:srgbClr val="dbf5f9"/>
              </a:solidFill>
              <a:latin typeface="Source Sans Pro"/>
            </a:endParaRPr>
          </a:p>
          <a:p>
            <a:pPr lvl="2" marL="130320" indent="-130320">
              <a:lnSpc>
                <a:spcPct val="104000"/>
              </a:lnSpc>
              <a:spcAft>
                <a:spcPts val="924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dbf5f9"/>
                </a:solidFill>
                <a:latin typeface="Source Sans Pro"/>
              </a:rPr>
              <a:t>Third Outline Level</a:t>
            </a:r>
            <a:endParaRPr b="0" lang="en-US" sz="2100" spc="-1" strike="noStrike">
              <a:solidFill>
                <a:srgbClr val="dbf5f9"/>
              </a:solidFill>
              <a:latin typeface="Source Sans Pro"/>
            </a:endParaRPr>
          </a:p>
          <a:p>
            <a:pPr lvl="3" marL="130320" indent="-130320">
              <a:lnSpc>
                <a:spcPct val="104000"/>
              </a:lnSpc>
              <a:spcAft>
                <a:spcPts val="92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dbf5f9"/>
                </a:solidFill>
                <a:latin typeface="Source Sans Pro"/>
              </a:rPr>
              <a:t>Fourth Outline Level</a:t>
            </a:r>
            <a:endParaRPr b="0" lang="en-US" sz="2100" spc="-1" strike="noStrike">
              <a:solidFill>
                <a:srgbClr val="dbf5f9"/>
              </a:solidFill>
              <a:latin typeface="Source Sans Pro"/>
            </a:endParaRPr>
          </a:p>
          <a:p>
            <a:pPr lvl="4" marL="130320" indent="-130320">
              <a:lnSpc>
                <a:spcPct val="104000"/>
              </a:lnSpc>
              <a:spcAft>
                <a:spcPts val="92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dbf5f9"/>
                </a:solidFill>
                <a:latin typeface="Source Sans Pro"/>
              </a:rPr>
              <a:t>Fifth Outline Level</a:t>
            </a:r>
            <a:endParaRPr b="0" lang="en-US" sz="2100" spc="-1" strike="noStrike">
              <a:solidFill>
                <a:srgbClr val="dbf5f9"/>
              </a:solidFill>
              <a:latin typeface="Source Sans Pro"/>
            </a:endParaRPr>
          </a:p>
          <a:p>
            <a:pPr lvl="5" marL="130320" indent="-130320">
              <a:lnSpc>
                <a:spcPct val="104000"/>
              </a:lnSpc>
              <a:spcAft>
                <a:spcPts val="92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dbf5f9"/>
                </a:solidFill>
                <a:latin typeface="Source Sans Pro"/>
              </a:rPr>
              <a:t>Sixth Outline Level</a:t>
            </a:r>
            <a:endParaRPr b="0" lang="en-US" sz="2100" spc="-1" strike="noStrike">
              <a:solidFill>
                <a:srgbClr val="dbf5f9"/>
              </a:solidFill>
              <a:latin typeface="Source Sans Pro"/>
            </a:endParaRPr>
          </a:p>
          <a:p>
            <a:pPr lvl="6" marL="130320" indent="-130320">
              <a:lnSpc>
                <a:spcPct val="104000"/>
              </a:lnSpc>
              <a:spcAft>
                <a:spcPts val="92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dbf5f9"/>
                </a:solidFill>
                <a:latin typeface="Source Sans Pro"/>
              </a:rPr>
              <a:t>Seventh Outline Level</a:t>
            </a:r>
            <a:endParaRPr b="0" lang="en-US" sz="2100" spc="-1" strike="noStrike">
              <a:solidFill>
                <a:srgbClr val="dbf5f9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0080720" cy="1101600"/>
          </a:xfrm>
          <a:prstGeom prst="rect">
            <a:avLst/>
          </a:prstGeom>
          <a:ln w="0">
            <a:noFill/>
          </a:ln>
          <a:effectLst>
            <a:outerShdw dist="10800" dir="5400000" blurRad="0" rotWithShape="0">
              <a:srgbClr val="f49100"/>
            </a:outerShdw>
          </a:effectLst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Source Sans Pro Light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1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2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3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4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5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6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39280" y="5128920"/>
            <a:ext cx="233532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&lt;date/time&gt;</a:t>
            </a:r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419280" y="5128920"/>
            <a:ext cx="323532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&lt;footer&gt;</a:t>
            </a:r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198920" y="5128920"/>
            <a:ext cx="233532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57FF76-241B-4B84-8CF1-611DA9D93F49}" type="slidenum"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&lt;number&gt;</a:t>
            </a:fld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201600"/>
          </a:xfrm>
          <a:prstGeom prst="rect">
            <a:avLst/>
          </a:prstGeom>
          <a:ln w="0">
            <a:noFill/>
          </a:ln>
          <a:effectLst>
            <a:outerShdw dist="10800" dir="5400000" blurRad="0" rotWithShape="0">
              <a:srgbClr val="f49100"/>
            </a:outerShdw>
          </a:effectLst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270000"/>
            <a:ext cx="89949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Source Sans Pro Light"/>
              </a:rPr>
              <a:t>Click to edit the title text format</a:t>
            </a:r>
            <a:endParaRPr b="0" lang="en-US" sz="4500" spc="-1" strike="noStrike">
              <a:solidFill>
                <a:srgbClr val="04617b"/>
              </a:solidFill>
              <a:latin typeface="Source Sans Pro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539640" y="1440000"/>
            <a:ext cx="899496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1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2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3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4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5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6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539280" y="5128920"/>
            <a:ext cx="233532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&lt;date/time&gt;</a:t>
            </a:r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419280" y="5119200"/>
            <a:ext cx="323532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&lt;footer&gt;</a:t>
            </a:r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7649640" y="5128920"/>
            <a:ext cx="188604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113597-BB7C-4674-8FB0-0244FF182709}" type="slidenum"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&lt;number&gt;</a:t>
            </a:fld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0" y="5557680"/>
            <a:ext cx="10080720" cy="113040"/>
          </a:xfrm>
          <a:prstGeom prst="rect">
            <a:avLst/>
          </a:prstGeom>
          <a:ln w="0">
            <a:noFill/>
          </a:ln>
          <a:effectLst>
            <a:outerShdw dist="10800" dir="16200000" blurRad="0" rotWithShape="0">
              <a:srgbClr val="f49100"/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0080720" cy="1101600"/>
          </a:xfrm>
          <a:prstGeom prst="rect">
            <a:avLst/>
          </a:prstGeom>
          <a:ln w="0">
            <a:noFill/>
          </a:ln>
          <a:effectLst>
            <a:outerShdw dist="10800" dir="5400000" blurRad="0" rotWithShape="0">
              <a:srgbClr val="f49100"/>
            </a:outerShdw>
          </a:effectLst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Source Sans Pro Light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1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2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3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4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5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6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539280" y="5128920"/>
            <a:ext cx="233532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&lt;date/time&gt;</a:t>
            </a:r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419280" y="5128920"/>
            <a:ext cx="323532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&lt;footer&gt;</a:t>
            </a:r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7198920" y="5128920"/>
            <a:ext cx="233532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AEB750-5570-4F78-917C-7F0D1842EA61}" type="slidenum"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&lt;number&gt;</a:t>
            </a:fld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13040" y="3927600"/>
            <a:ext cx="7315200" cy="15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AT" sz="6000" spc="-1" strike="noStrike">
                <a:solidFill>
                  <a:srgbClr val="ffffff"/>
                </a:solidFill>
                <a:latin typeface="Source Sans Pro Semibold"/>
              </a:rPr>
              <a:t>COMPETIȚIA </a:t>
            </a:r>
            <a:br>
              <a:rPr sz="6000"/>
            </a:br>
            <a:r>
              <a:rPr b="1" lang="de-AT" sz="6000" spc="-1" strike="noStrike">
                <a:solidFill>
                  <a:srgbClr val="ffffff"/>
                </a:solidFill>
                <a:latin typeface="Source Sans Pro Semibold"/>
              </a:rPr>
              <a:t>UAUIM FFCSU </a:t>
            </a:r>
            <a:r>
              <a:rPr b="0" lang="de-AT" sz="6000" spc="-1" strike="noStrike">
                <a:solidFill>
                  <a:srgbClr val="ffffff"/>
                </a:solidFill>
                <a:latin typeface="Source Sans Pro Semibold"/>
              </a:rPr>
              <a:t>2024</a:t>
            </a:r>
            <a:endParaRPr b="0" lang="en-US" sz="6000" spc="-1" strike="noStrike">
              <a:solidFill>
                <a:srgbClr val="04617b"/>
              </a:solidFill>
              <a:latin typeface="Source Sans Pro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972800" y="493560"/>
            <a:ext cx="899964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ource Sans Pro Light"/>
              </a:rPr>
              <a:t>Universitatea de Arhitectură</a:t>
            </a:r>
            <a:r>
              <a:rPr b="1" lang="de-AT" sz="1400" spc="-1" strike="noStrike">
                <a:solidFill>
                  <a:srgbClr val="000000"/>
                </a:solidFill>
                <a:latin typeface="Source Sans Pro Light"/>
              </a:rPr>
              <a:t> și Urbanism “Ion Mincu” București </a:t>
            </a:r>
            <a:r>
              <a:rPr b="1" lang="de-AT" sz="1400" spc="-1" strike="noStrike">
                <a:solidFill>
                  <a:srgbClr val="000000"/>
                </a:solidFill>
                <a:latin typeface="Source Sans Pro Light"/>
              </a:rPr>
              <a:t>	</a:t>
            </a:r>
            <a:endParaRPr b="1" lang="en-US" sz="1400" spc="-1" strike="noStrike">
              <a:solidFill>
                <a:srgbClr val="dbf5f9"/>
              </a:solidFill>
              <a:latin typeface="Source Sans Pro"/>
            </a:endParaRPr>
          </a:p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Source Sans Pro Light"/>
              </a:rPr>
              <a:t>Adresa: Str. Academiei, Nr. 18-20, cod 010014 - București, România </a:t>
            </a:r>
            <a:endParaRPr b="1" lang="en-US" sz="1400" spc="-1" strike="noStrike">
              <a:solidFill>
                <a:srgbClr val="dbf5f9"/>
              </a:solidFill>
              <a:latin typeface="Source Sans Pro"/>
            </a:endParaRPr>
          </a:p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Source Sans Pro Light"/>
              </a:rPr>
              <a:t>Telefon: (+40-21) 307.71.12, Fax: (+40-21) 307.71.09 </a:t>
            </a:r>
            <a:endParaRPr b="1" lang="en-US" sz="1400" spc="-1" strike="noStrike">
              <a:solidFill>
                <a:srgbClr val="dbf5f9"/>
              </a:solidFill>
              <a:latin typeface="Source Sans Pro"/>
            </a:endParaRPr>
          </a:p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Source Sans Pro Light"/>
              </a:rPr>
              <a:t>DMC – Departamentul pentru Managementul Cercetării</a:t>
            </a:r>
            <a:endParaRPr b="1" lang="en-US" sz="1400" spc="-1" strike="noStrike">
              <a:solidFill>
                <a:srgbClr val="dbf5f9"/>
              </a:solidFill>
              <a:latin typeface="Source Sans Pro"/>
            </a:endParaRPr>
          </a:p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Source Sans Pro Light"/>
              </a:rPr>
              <a:t>www.uauim.ro/cercetare – email: cercetare@uauim.ro</a:t>
            </a:r>
            <a:r>
              <a:rPr b="1" lang="ro-RO" sz="1400" spc="-1" strike="noStrike">
                <a:solidFill>
                  <a:srgbClr val="000000"/>
                </a:solidFill>
                <a:latin typeface="Source Sans Pro"/>
              </a:rPr>
              <a:t> </a:t>
            </a:r>
            <a:endParaRPr b="1" lang="en-US" sz="1400" spc="-1" strike="noStrike">
              <a:solidFill>
                <a:srgbClr val="dbf5f9"/>
              </a:solidFill>
              <a:latin typeface="Source Sans Pro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03200" y="228600"/>
            <a:ext cx="1434960" cy="13716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57200" y="1828800"/>
            <a:ext cx="9623520" cy="1440"/>
          </a:xfrm>
          <a:prstGeom prst="line">
            <a:avLst/>
          </a:prstGeom>
          <a:ln w="18000">
            <a:solidFill>
              <a:srgbClr val="1e9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73" name=""/>
          <p:cNvSpPr/>
          <p:nvPr/>
        </p:nvSpPr>
        <p:spPr>
          <a:xfrm>
            <a:off x="1973160" y="2259000"/>
            <a:ext cx="7856640" cy="13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o-RO" sz="1400" spc="-1" strike="noStrike">
                <a:solidFill>
                  <a:srgbClr val="1e90ff"/>
                </a:solidFill>
                <a:latin typeface="Source Sans Pro"/>
              </a:rPr>
              <a:t>CERERE DE FINANȚARE PENTRU PROIECTUL </a:t>
            </a:r>
            <a:r>
              <a:rPr b="0" lang="ro-RO" sz="1400" spc="-1" strike="noStrike">
                <a:solidFill>
                  <a:srgbClr val="c9211e"/>
                </a:solidFill>
                <a:latin typeface="Source Sans Pro"/>
              </a:rPr>
              <a:t>TITLU / ACRONIM: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o-RO" sz="1400" spc="-1" strike="noStrike">
                <a:solidFill>
                  <a:srgbClr val="1e90ff"/>
                </a:solidFill>
                <a:latin typeface="Source Sans Pro"/>
              </a:rPr>
              <a:t>.............................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56000"/>
              </a:lnSpc>
              <a:spcAft>
                <a:spcPts val="106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o-RO" sz="1400" spc="-1" strike="noStrike">
                <a:solidFill>
                  <a:srgbClr val="1e90ff"/>
                </a:solidFill>
                <a:latin typeface="Source Sans Pro"/>
              </a:rPr>
              <a:t>DOMENIU VIZAT</a:t>
            </a:r>
            <a:r>
              <a:rPr b="0" lang="ro-RO" sz="1400" spc="-1" strike="noStrike">
                <a:solidFill>
                  <a:srgbClr val="c9211e"/>
                </a:solidFill>
                <a:latin typeface="Source Sans Pro"/>
              </a:rPr>
              <a:t> SE ALEGE </a:t>
            </a:r>
            <a:r>
              <a:rPr b="0" lang="ro-RO" sz="1400" spc="-1" strike="noStrike">
                <a:solidFill>
                  <a:srgbClr val="c9211e"/>
                </a:solidFill>
                <a:latin typeface="Source Sans Pro"/>
              </a:rPr>
              <a:t>unul dintre cele OPT domenii descrise la punctul IV pentru care se acordă finanţare </a:t>
            </a:r>
            <a:r>
              <a:rPr b="0" lang="ro-RO" sz="1400" spc="-1" strike="noStrike">
                <a:solidFill>
                  <a:srgbClr val="1e90ff"/>
                </a:solidFill>
                <a:latin typeface="Source Sans Pro"/>
              </a:rPr>
              <a:t>...................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3280" y="90000"/>
            <a:ext cx="864072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4100" spc="-1" strike="noStrike">
                <a:solidFill>
                  <a:srgbClr val="fffaf0"/>
                </a:solidFill>
                <a:latin typeface="Source Sans Pro Semibold"/>
              </a:rPr>
              <a:t>COMPETIȚIA UAUIM FFCSU 2024</a:t>
            </a:r>
            <a:endParaRPr b="0" lang="en-US" sz="41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3280" y="1440000"/>
            <a:ext cx="9021600" cy="349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AT" sz="1400" spc="-1" strike="noStrike">
                <a:solidFill>
                  <a:srgbClr val="1e90ff"/>
                </a:solidFill>
                <a:latin typeface="Source Sans Pro"/>
              </a:rPr>
              <a:t>Manager proiect /</a:t>
            </a:r>
            <a:r>
              <a:rPr b="0" lang="de-AT" sz="1400" spc="-1" strike="noStrike">
                <a:solidFill>
                  <a:srgbClr val="c9211e"/>
                </a:solidFill>
                <a:latin typeface="Source Sans Pro"/>
              </a:rPr>
              <a:t> Nume, prenume / Funcție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AT" sz="1400" spc="-1" strike="noStrike">
                <a:solidFill>
                  <a:srgbClr val="1e90ff"/>
                </a:solidFill>
                <a:latin typeface="Source Sans Pro"/>
              </a:rPr>
              <a:t>Bugetul propus / 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AT" sz="1400" spc="-1" strike="noStrike">
                <a:solidFill>
                  <a:srgbClr val="1e90ff"/>
                </a:solidFill>
                <a:latin typeface="Source Sans Pro"/>
              </a:rPr>
              <a:t>Durata proiectului (luni) 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o-RO" sz="1400" spc="-1" strike="noStrike">
                <a:solidFill>
                  <a:srgbClr val="1e90ff"/>
                </a:solidFill>
                <a:latin typeface="Source Sans Pro"/>
              </a:rPr>
              <a:t>Scopul proiectului / </a:t>
            </a:r>
            <a:r>
              <a:rPr b="0" lang="ro-RO" sz="1400" spc="-1" strike="noStrike">
                <a:solidFill>
                  <a:srgbClr val="00008b"/>
                </a:solidFill>
                <a:latin typeface="Source Sans Pro"/>
              </a:rPr>
              <a:t> </a:t>
            </a:r>
            <a:r>
              <a:rPr b="0" lang="ro-RO" sz="1400" spc="-1" strike="noStrike">
                <a:solidFill>
                  <a:srgbClr val="c9211e"/>
                </a:solidFill>
                <a:latin typeface="Source Sans Pro"/>
              </a:rPr>
              <a:t>Realizarea</a:t>
            </a:r>
            <a:r>
              <a:rPr b="0" lang="ro-RO" sz="1400" spc="-1" strike="noStrike">
                <a:solidFill>
                  <a:srgbClr val="00008b"/>
                </a:solidFill>
                <a:latin typeface="Source Sans Pro"/>
              </a:rPr>
              <a:t>  ..... 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9072720" y="41400"/>
            <a:ext cx="914400" cy="873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457200" y="5029200"/>
            <a:ext cx="9623520" cy="1440"/>
          </a:xfrm>
          <a:prstGeom prst="line">
            <a:avLst/>
          </a:prstGeom>
          <a:ln w="18000">
            <a:solidFill>
              <a:srgbClr val="ff8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78" name=""/>
          <p:cNvSpPr/>
          <p:nvPr/>
        </p:nvSpPr>
        <p:spPr>
          <a:xfrm>
            <a:off x="504720" y="5045040"/>
            <a:ext cx="86407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AT" sz="3600" spc="-1" strike="noStrike">
                <a:solidFill>
                  <a:srgbClr val="1e90ff"/>
                </a:solidFill>
                <a:latin typeface="Source Sans Pro Black"/>
              </a:rPr>
              <a:t>PROIECT: </a:t>
            </a:r>
            <a:endParaRPr b="0" lang="en-US" sz="36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90000"/>
            <a:ext cx="864072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4100" spc="-1" strike="noStrike">
                <a:solidFill>
                  <a:srgbClr val="fffaf0"/>
                </a:solidFill>
                <a:latin typeface="Source Sans Pro Semibold"/>
              </a:rPr>
              <a:t>COMPETIȚIA UAUIM FFCSU 2024</a:t>
            </a:r>
            <a:endParaRPr b="0" lang="en-US" sz="41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3280" y="1440000"/>
            <a:ext cx="9021600" cy="349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o-RO" sz="1400" spc="-1" strike="noStrike">
                <a:solidFill>
                  <a:srgbClr val="1e90ff"/>
                </a:solidFill>
                <a:latin typeface="Source Sans Pro"/>
              </a:rPr>
              <a:t>ObiectiveLE SPECIFICE ALE PROIECTULUI 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 algn="just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o-RO" sz="1400" spc="-1" strike="noStrike">
                <a:solidFill>
                  <a:srgbClr val="c9211e"/>
                </a:solidFill>
                <a:latin typeface="Source Sans Pro"/>
              </a:rPr>
              <a:t>OS1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 algn="just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o-RO" sz="1400" spc="-1" strike="noStrike">
                <a:solidFill>
                  <a:srgbClr val="c9211e"/>
                </a:solidFill>
                <a:latin typeface="Source Sans Pro"/>
              </a:rPr>
              <a:t>OS2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 algn="just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o-RO" sz="1400" spc="-1" strike="noStrike">
                <a:solidFill>
                  <a:srgbClr val="c9211e"/>
                </a:solidFill>
                <a:latin typeface="Source Sans Pro"/>
              </a:rPr>
              <a:t>OS3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9072720" y="41400"/>
            <a:ext cx="914400" cy="873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457200" y="5029200"/>
            <a:ext cx="9623520" cy="1440"/>
          </a:xfrm>
          <a:prstGeom prst="line">
            <a:avLst/>
          </a:prstGeom>
          <a:ln w="18000">
            <a:solidFill>
              <a:srgbClr val="ff8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83" name=""/>
          <p:cNvSpPr/>
          <p:nvPr/>
        </p:nvSpPr>
        <p:spPr>
          <a:xfrm>
            <a:off x="504720" y="5045040"/>
            <a:ext cx="86407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AT" sz="3600" spc="-1" strike="noStrike">
                <a:solidFill>
                  <a:srgbClr val="1e90ff"/>
                </a:solidFill>
                <a:latin typeface="Source Sans Pro Black"/>
              </a:rPr>
              <a:t>PROIECT: </a:t>
            </a:r>
            <a:endParaRPr b="0" lang="en-US" sz="36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90000"/>
            <a:ext cx="864072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4100" spc="-1" strike="noStrike">
                <a:solidFill>
                  <a:srgbClr val="fffaf0"/>
                </a:solidFill>
                <a:latin typeface="Source Sans Pro Semibold"/>
              </a:rPr>
              <a:t>COMPETIȚIA UAUIM FFCSU 2024</a:t>
            </a:r>
            <a:endParaRPr b="0" lang="en-US" sz="41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03280" y="1440000"/>
            <a:ext cx="9021600" cy="349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AT" sz="1400" spc="-1" strike="noStrike">
                <a:solidFill>
                  <a:srgbClr val="1e90ff"/>
                </a:solidFill>
                <a:latin typeface="Source Sans Pro"/>
              </a:rPr>
              <a:t>Departament/e implicate  / ECHIPA 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AT" sz="1400" spc="-1" strike="noStrike">
                <a:solidFill>
                  <a:srgbClr val="1e90ff"/>
                </a:solidFill>
                <a:latin typeface="Source Sans Pro"/>
              </a:rPr>
              <a:t>din care estimat nr. DOCTORANZI /STUDENȚI IMPLICAȚI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9072720" y="41400"/>
            <a:ext cx="914400" cy="8730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457200" y="5029200"/>
            <a:ext cx="9623520" cy="1440"/>
          </a:xfrm>
          <a:prstGeom prst="line">
            <a:avLst/>
          </a:prstGeom>
          <a:ln w="18000">
            <a:solidFill>
              <a:srgbClr val="ff8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88" name=""/>
          <p:cNvSpPr/>
          <p:nvPr/>
        </p:nvSpPr>
        <p:spPr>
          <a:xfrm>
            <a:off x="504720" y="5045040"/>
            <a:ext cx="86407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AT" sz="3600" spc="-1" strike="noStrike">
                <a:solidFill>
                  <a:srgbClr val="1e90ff"/>
                </a:solidFill>
                <a:latin typeface="Source Sans Pro Black"/>
              </a:rPr>
              <a:t>PROIECT: </a:t>
            </a:r>
            <a:endParaRPr b="0" lang="en-US" sz="36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3280" y="90000"/>
            <a:ext cx="864072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4100" spc="-1" strike="noStrike">
                <a:solidFill>
                  <a:srgbClr val="fffaf0"/>
                </a:solidFill>
                <a:latin typeface="Source Sans Pro Semibold"/>
              </a:rPr>
              <a:t>COMPETIȚIA UAUIM FFCSU 2024</a:t>
            </a:r>
            <a:endParaRPr b="0" lang="en-US" sz="41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3280" y="1440000"/>
            <a:ext cx="9021600" cy="349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AT" sz="1400" spc="-1" strike="noStrike">
                <a:solidFill>
                  <a:srgbClr val="1e90ff"/>
                </a:solidFill>
                <a:latin typeface="Source Sans Pro"/>
              </a:rPr>
              <a:t>ACTIVITĂȚI PROPUSE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 algn="just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o-RO" sz="1400" spc="-1" strike="noStrike">
                <a:solidFill>
                  <a:srgbClr val="c9211e"/>
                </a:solidFill>
                <a:latin typeface="Source Sans Pro"/>
              </a:rPr>
              <a:t>A1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 algn="just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o-RO" sz="1400" spc="-1" strike="noStrike">
                <a:solidFill>
                  <a:srgbClr val="c9211e"/>
                </a:solidFill>
                <a:latin typeface="Source Sans Pro"/>
              </a:rPr>
              <a:t>A2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 algn="just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o-RO" sz="1400" spc="-1" strike="noStrike">
                <a:solidFill>
                  <a:srgbClr val="c9211e"/>
                </a:solidFill>
                <a:latin typeface="Source Sans Pro"/>
              </a:rPr>
              <a:t>A3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9072720" y="41400"/>
            <a:ext cx="914400" cy="8730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457200" y="5029200"/>
            <a:ext cx="9623520" cy="1440"/>
          </a:xfrm>
          <a:prstGeom prst="line">
            <a:avLst/>
          </a:prstGeom>
          <a:ln w="18000">
            <a:solidFill>
              <a:srgbClr val="ff8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93" name=""/>
          <p:cNvSpPr/>
          <p:nvPr/>
        </p:nvSpPr>
        <p:spPr>
          <a:xfrm>
            <a:off x="504720" y="5045040"/>
            <a:ext cx="86407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AT" sz="3600" spc="-1" strike="noStrike">
                <a:solidFill>
                  <a:srgbClr val="1e90ff"/>
                </a:solidFill>
                <a:latin typeface="Source Sans Pro Black"/>
              </a:rPr>
              <a:t>PROIECT: </a:t>
            </a:r>
            <a:endParaRPr b="0" lang="en-US" sz="36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3280" y="90000"/>
            <a:ext cx="864072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4100" spc="-1" strike="noStrike">
                <a:solidFill>
                  <a:srgbClr val="fffaf0"/>
                </a:solidFill>
                <a:latin typeface="Source Sans Pro Semibold"/>
              </a:rPr>
              <a:t>COMPETIȚIA UAUIM FFCSU 2024</a:t>
            </a:r>
            <a:endParaRPr b="0" lang="en-US" sz="41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03280" y="1440000"/>
            <a:ext cx="9021600" cy="349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AT" sz="1400" spc="-1" strike="noStrike">
                <a:solidFill>
                  <a:srgbClr val="1e90ff"/>
                </a:solidFill>
                <a:latin typeface="Source Sans Pro"/>
              </a:rPr>
              <a:t>REZULTATE ASUMATE - CORELARE CU INDICATORII DE REZULTAT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 algn="just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o-RO" sz="1400" spc="-1" strike="noStrike">
                <a:solidFill>
                  <a:srgbClr val="c9211e"/>
                </a:solidFill>
                <a:latin typeface="Source Sans Pro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 algn="just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o-RO" sz="1400" spc="-1" strike="noStrike">
                <a:solidFill>
                  <a:srgbClr val="c9211e"/>
                </a:solidFill>
                <a:latin typeface="Source Sans Pro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 algn="just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o-RO" sz="1400" spc="-1" strike="noStrike">
                <a:solidFill>
                  <a:srgbClr val="c9211e"/>
                </a:solidFill>
                <a:latin typeface="Source Sans Pro"/>
              </a:rPr>
              <a:t>R3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9072720" y="41400"/>
            <a:ext cx="914400" cy="8730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57200" y="5029200"/>
            <a:ext cx="9623520" cy="1440"/>
          </a:xfrm>
          <a:prstGeom prst="line">
            <a:avLst/>
          </a:prstGeom>
          <a:ln w="18000">
            <a:solidFill>
              <a:srgbClr val="ff8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98" name=""/>
          <p:cNvSpPr/>
          <p:nvPr/>
        </p:nvSpPr>
        <p:spPr>
          <a:xfrm>
            <a:off x="504720" y="5045040"/>
            <a:ext cx="86407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AT" sz="3600" spc="-1" strike="noStrike">
                <a:solidFill>
                  <a:srgbClr val="1e90ff"/>
                </a:solidFill>
                <a:latin typeface="Source Sans Pro Black"/>
              </a:rPr>
              <a:t>PROIECT: </a:t>
            </a:r>
            <a:endParaRPr b="0" lang="en-US" sz="36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3280" y="90000"/>
            <a:ext cx="864072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4100" spc="-1" strike="noStrike">
                <a:solidFill>
                  <a:srgbClr val="fffaf0"/>
                </a:solidFill>
                <a:latin typeface="Source Sans Pro Semibold"/>
              </a:rPr>
              <a:t>COMPETIȚIA UAUIM FFCSU 2024</a:t>
            </a:r>
            <a:endParaRPr b="0" lang="en-US" sz="41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3280" y="1440000"/>
            <a:ext cx="9021600" cy="349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AT" sz="1400" spc="-1" strike="noStrike">
                <a:solidFill>
                  <a:srgbClr val="1e90ff"/>
                </a:solidFill>
                <a:latin typeface="Source Sans Pro"/>
              </a:rPr>
              <a:t>Descriere/ justificare BUGET  - care sunt cheltuielile proiectului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 algn="just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o-RO" sz="1400" spc="-1" strike="noStrike">
                <a:solidFill>
                  <a:srgbClr val="c9211e"/>
                </a:solidFill>
                <a:latin typeface="Source Sans Pro"/>
              </a:rPr>
              <a:t>Cheltuieli de personal ...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 algn="just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o-RO" sz="1400" spc="-1" strike="noStrike">
                <a:solidFill>
                  <a:srgbClr val="c9211e"/>
                </a:solidFill>
                <a:latin typeface="Source Sans Pro"/>
              </a:rPr>
              <a:t>Cheltuieli materiale ...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 algn="just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9072720" y="41400"/>
            <a:ext cx="914400" cy="8730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457200" y="5029200"/>
            <a:ext cx="9623520" cy="1440"/>
          </a:xfrm>
          <a:prstGeom prst="line">
            <a:avLst/>
          </a:prstGeom>
          <a:ln w="18000">
            <a:solidFill>
              <a:srgbClr val="ff8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03" name=""/>
          <p:cNvSpPr/>
          <p:nvPr/>
        </p:nvSpPr>
        <p:spPr>
          <a:xfrm>
            <a:off x="504720" y="5045040"/>
            <a:ext cx="86407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AT" sz="3600" spc="-1" strike="noStrike">
                <a:solidFill>
                  <a:srgbClr val="1e90ff"/>
                </a:solidFill>
                <a:latin typeface="Source Sans Pro Black"/>
              </a:rPr>
              <a:t>PROIECT: </a:t>
            </a:r>
            <a:endParaRPr b="0" lang="en-US" sz="36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3280" y="90000"/>
            <a:ext cx="864072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4100" spc="-1" strike="noStrike">
                <a:solidFill>
                  <a:srgbClr val="fffaf0"/>
                </a:solidFill>
                <a:latin typeface="Source Sans Pro Semibold"/>
              </a:rPr>
              <a:t>COMPETIȚIA UAUIM FFCSU 2024</a:t>
            </a:r>
            <a:endParaRPr b="0" lang="en-US" sz="41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3280" y="1440000"/>
            <a:ext cx="9021600" cy="349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AT" sz="1400" spc="-1" strike="noStrike">
                <a:solidFill>
                  <a:srgbClr val="1e90ff"/>
                </a:solidFill>
                <a:latin typeface="Source Sans Pro"/>
              </a:rPr>
              <a:t>ALTE INFORMAȚII UTILE 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AT" sz="1400" spc="-1" strike="noStrike">
                <a:solidFill>
                  <a:srgbClr val="1e90ff"/>
                </a:solidFill>
                <a:latin typeface="Source Sans Pro"/>
              </a:rPr>
              <a:t>- PROMOVAREA REZULTATELOR PROIECTELOR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AT" sz="1400" spc="-1" strike="noStrike">
                <a:solidFill>
                  <a:srgbClr val="1e90ff"/>
                </a:solidFill>
                <a:latin typeface="Source Sans Pro"/>
              </a:rPr>
              <a:t>- ATINGEREA INDICATORILOR DE REZULTAT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AT" sz="1400" spc="-1" strike="noStrike">
                <a:solidFill>
                  <a:srgbClr val="1e90ff"/>
                </a:solidFill>
                <a:latin typeface="Source Sans Pro"/>
              </a:rPr>
              <a:t>- ATINGEREA INDICATORILOR DE SUSTENABILITATE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 algn="just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9072720" y="41400"/>
            <a:ext cx="914400" cy="8730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457200" y="5029200"/>
            <a:ext cx="9623520" cy="1440"/>
          </a:xfrm>
          <a:prstGeom prst="line">
            <a:avLst/>
          </a:prstGeom>
          <a:ln w="18000">
            <a:solidFill>
              <a:srgbClr val="ff8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08" name=""/>
          <p:cNvSpPr/>
          <p:nvPr/>
        </p:nvSpPr>
        <p:spPr>
          <a:xfrm>
            <a:off x="504720" y="5045040"/>
            <a:ext cx="86407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AT" sz="3600" spc="-1" strike="noStrike">
                <a:solidFill>
                  <a:srgbClr val="1e90ff"/>
                </a:solidFill>
                <a:latin typeface="Source Sans Pro Black"/>
              </a:rPr>
              <a:t>PROIECT: </a:t>
            </a:r>
            <a:endParaRPr b="0" lang="en-US" sz="36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3-09T10:21:58Z</dcterms:created>
  <dc:creator/>
  <dc:description/>
  <dc:language>en-US</dc:language>
  <cp:lastModifiedBy/>
  <dcterms:modified xsi:type="dcterms:W3CDTF">2024-08-02T10:28:29Z</dcterms:modified>
  <cp:revision>294</cp:revision>
  <dc:subject/>
  <dc:title>Vivid</dc:title>
</cp:coreProperties>
</file>